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84600" y="59436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ath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74880" y="592596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red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52880" y="5029200"/>
            <a:ext cx="36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27560" y="6035760"/>
            <a:ext cx="33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cientific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6600" y="35244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ce students use it to solv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1224000" y="20113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:  Scientific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85880" y="4888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82800" y="608184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111640" y="4824360"/>
            <a:ext cx="34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Exper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30880" y="60357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7960" y="77796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educated guess that can be t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0" y="267804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:  Hypo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4640" y="4840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visit the school nurse aft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957240" y="6035760"/>
            <a:ext cx="33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ell the science instructor a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0880" y="48560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ee a doctor after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424480" y="60357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pply first aid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81200" y="47772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have been injured in the lab (cut, burn, etc.)  First you sh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-168120" y="2451240"/>
            <a:ext cx="5101920" cy="115236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 the science i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 face sh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958680" y="5846760"/>
            <a:ext cx="33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plashproof chemical gog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afety g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299200" y="58467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49160" y="62064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sonal eyeglasses provide as much protectio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69840" y="2514600"/>
            <a:ext cx="4267080" cy="116676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:  n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411280" y="269244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s. Selb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1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7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3680" y="6461280"/>
              <a:ext cx="30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naselby@comcast.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12840" y="5943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03440" y="48610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he one we no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70120" y="5937120"/>
            <a:ext cx="31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164200" y="484668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ame as 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952880" y="6095880"/>
            <a:ext cx="34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he one w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74800" y="6523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independent variable 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5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:  the one w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doses,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998640" y="585144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ymptoms,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389560" y="4888080"/>
            <a:ext cx="32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ymptoms,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405400" y="5838840"/>
            <a:ext cx="34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oses,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74560" y="588960"/>
            <a:ext cx="518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a study of how different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oses of a dru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ffect the severity of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ymptom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would change ___________and this will be my ____________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:  doses,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84040" y="59436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648320" y="5943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12720" y="4871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elements and pure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87320" y="6035760"/>
            <a:ext cx="335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ure substances                 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ompou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283360" y="6035760"/>
            <a:ext cx="3412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element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97040" y="38592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ydrogen (H), Sodium (Na) and Chlorine (Cl)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5" name=""/>
          <p:cNvSpPr/>
          <p:nvPr/>
        </p:nvSpPr>
        <p:spPr>
          <a:xfrm>
            <a:off x="69840" y="2471760"/>
            <a:ext cx="4503600" cy="12096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: elements and p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9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60240" y="4844880"/>
            <a:ext cx="3657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wo hydrogen atoms and one oxygen a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800280" y="5927760"/>
            <a:ext cx="3517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  Oxygen atoms and one hydrogen at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276880" y="4846680"/>
            <a:ext cx="3486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One hydrogen atom and two oxygen ato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346720" y="5927760"/>
            <a:ext cx="33796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O is not a comp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4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85800" y="1203480"/>
            <a:ext cx="51814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is a compound that h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407880" y="2541600"/>
            <a:ext cx="4267440" cy="115416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: two hydrogen ato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one oxygen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volume and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33520" y="6095880"/>
            <a:ext cx="33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ass and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227560" y="475632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volume and 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up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52880" y="609588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12640" y="557280"/>
            <a:ext cx="518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 is anything that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 volume and 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4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2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0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29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7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6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4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2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elting 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33520" y="6095880"/>
            <a:ext cx="37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blowing up a ball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urning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52880" y="6095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9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795240" y="636480"/>
            <a:ext cx="518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 example of physical change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 melting 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urning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33520" y="6095880"/>
            <a:ext cx="34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elting 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utting w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952880" y="6095880"/>
            <a:ext cx="36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aking a sh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01640" y="44784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example of chemical chang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 burning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60280" y="59436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r.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s. Sel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952880" y="502920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resident B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4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797040" y="80964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 is the most important person from this l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:  Your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59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0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7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8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6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5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2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3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1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2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9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0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8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6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 open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6095880"/>
            <a:ext cx="31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other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 open fl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 s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90640" y="77796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ammable materials, like alcohol, should never be dispensed or used 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An open fl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5029200"/>
            <a:ext cx="39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notify your i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5880" y="5905440"/>
            <a:ext cx="324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hrow water on the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53120" y="4919760"/>
            <a:ext cx="36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run for the fire extingu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6095880"/>
            <a:ext cx="35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open the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a laboratory fire erupts, immedia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Notify your i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3400" y="490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:  left in your lab station for the nex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974880" y="6035760"/>
            <a:ext cx="30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umped in the s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189400" y="498168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 disposed of according to you instructor’s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aken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90504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completing an experiment, all chemicals wastes sh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0" y="2593800"/>
            <a:ext cx="4976640" cy="108756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:  disposed of according to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ctor’s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 </cp:lastModifiedBy>
  <dcterms:modified xsi:type="dcterms:W3CDTF">2008-09-02T03:05:52Z</dcterms:modified>
  <cp:revision>21</cp:revision>
  <dc:subject/>
  <dc:title>No Slide Title</dc:title>
</cp:coreProperties>
</file>